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AB03-8C2A-4E7D-B676-2B77629CDF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87A6-D2F7-4DB0-925A-E08185EF38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4E7-C4A1-41ED-9646-F6B3139B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156-DC79-47D3-B88E-CD53AD97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329C-E476-4F11-9E89-05B43516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39B-3796-4FD5-B925-AF6784BC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BC58-8F15-4BA2-883B-644AFE9F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3453-99E5-492E-93AE-194BAD4B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C012-8833-485A-A178-F0DE0565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2231-EF67-4A69-B91F-D6240A24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76CC-CA1C-4BF9-AA8E-104096FF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01A4-6083-413A-B49D-B91BC694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FFC2-3602-44C7-941E-3F2B7906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2BA-167F-4981-8EF7-58FC9B08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0B63-0822-4B3C-8890-7138071F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BB9F-E75A-4320-B676-AD1F4940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EE43-2165-43BA-9EA4-3648B239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0722-A175-45E3-9DCE-D6F4EC26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0619-43C7-408A-88CB-6631A976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619CF-1A56-4825-BA5A-8D7B4AD4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FBF75-8B5F-44B6-A175-47D4D6CC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77C67-458E-4110-8C44-9364E052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72122-5C67-4DA4-9952-7DC4B975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96193-4A86-4225-80A7-5CE51BBF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C60-61C3-4DBF-95EF-A33DD60A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AC76D-FE92-4AE2-B95F-A9DF4557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A2686-E93A-44D6-97C5-684F85F4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8593A-04C1-4FE9-B601-F576DD1A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895BF-581A-46EF-B80D-441F58CC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EF700-DA80-4FFA-8960-27F2031C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D160A-4B51-41A6-8464-D15A74C5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B1705-A1E7-4950-85DD-E4D65B0B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448EE-9FDE-4100-A7FD-C3406E94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53A18-197D-4D88-856B-9B8409B9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E85F5-CD24-418E-8A05-CCBF7267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E67-C242-4641-9750-432BC48C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2637E-3FE5-402E-98B2-BB717B48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38FE2-190C-4A6A-B80A-7921DC99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8E5E9-A06D-41D8-8DD6-5C247554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ACC36-55AE-4812-A8DC-0AAFD434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6B449-E82A-49D8-8AC0-CB2BFD60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994C1-811B-4787-B56D-68A7BC5C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31F6F-F0EB-4339-924E-92B3864D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D3B18-DFC2-48BD-9B3D-83354367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6597F-6FB0-4376-AE7B-14938B1E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AAC5C-8B17-4EA2-9CEA-24A49091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D48E-5413-4B2B-B606-684E0A18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A51D0-39C8-455A-AFED-CA7ED461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12E86-4CDC-4A1E-878D-13039999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7754D-F0B2-438B-AEF9-4E32DAA7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D5237-7F5C-4DF1-B181-820A3A1A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61437-66A8-4A87-AF87-1962FBF0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FD95F-77E0-4E24-BDE8-58932568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0CC81-CBF2-42F0-B468-49CC85CD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2B2B3-0581-4746-A02A-C6B0D65E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129BA-6E52-4A1A-8C55-8BF740A5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2C569-05C6-4CAA-B456-7FBCDC92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226-2667-4380-AF47-910B442D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D94CE-09E5-4D5B-817A-F1690958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4EF5D-25A8-4ADC-BE2F-4D548ED4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0028B-E136-4736-8475-16B41E47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4DF06-779E-46C1-829D-84C82A94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569E3-9A1C-4669-ADCC-6BEA6A6F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ED07E-7C31-45E7-982D-F7491A5E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6606C-DD7A-42C2-9BA2-5BA467EF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439F5-FBDA-4AF0-949F-96CD83CA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9555A-CE9B-4EFC-956F-A14A2E39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B3F26-4FE7-42AA-B944-4DFD69CD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0BD0-61AF-483A-A4C5-D6EACDCB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CAF52-B529-4605-B16B-36AA5DC6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B4967-6A78-479D-917E-8180D440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C33FE-1F9A-4C06-B6AA-D721C2F3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19797-64D7-4F9A-B096-6C7CA8FB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489F5-B420-4649-915C-4B4DAEA1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A2AC6-7B84-4351-B31C-E8C3A028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9B87A-F219-49DB-AEF6-D6EF5228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600DE-3A06-4F4F-8ADB-2961F4B5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38068-5AA3-41FF-876A-697FFB0B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8C25A-7ACB-46F9-8CC2-39259F91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436A-797A-4D48-9873-FCA1E831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73380-86AD-4925-9948-CD097689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62266-6AFE-4D7F-AADF-EAD02D3A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4B41E-F385-474D-A8AC-631B5408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7CD3F-80AE-4453-AE03-F37B9512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FBB7D-3686-407E-B70D-81FE307D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22844-6689-41B6-AAA7-30D930D9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90DD2-EC3A-4358-AFC3-534CB9A2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ACF11-9100-4E55-A85D-A9BB3AD9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71826-C1A4-4B15-AA88-DEE25EEA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3E6BA-B5A5-43F0-87E8-29C1CCF3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254-0C48-4DF6-9226-07D8DBA3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B3393-649D-44CA-AA00-7C03D7CA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14BF8-DA6B-46E7-A2A6-1E04216D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592C1-6DCB-42E0-9FC7-41D917BE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0A3D2-4A61-4DBA-8B40-65EFC2ED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71ADF-BA85-483D-AA22-2C9DE98A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5D205-E382-4649-9B5B-30B2C96A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5C785-18B2-4AC7-97B0-3EBFA696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צורה חופשית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צורה חופשית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משולש ישר-זווית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משולש ישר-זווית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מחבר ישר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4B92-C108-429C-8F9A-0FBC464D7622}" type="slidenum">
              <a:rPr b="0" lang="he-I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משולש ישר-זווית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קבוצה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צורה חופשית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צורה חופשית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צורה חופשית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צורה חופשית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מחבר ישר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B43E-27AE-400B-A6E4-E3594DF975C0}" type="slidenum">
              <a:rPr b="0" lang="he-I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צורה חופשית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צורה חופשית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משולש ישר-זווית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משולש ישר-זווית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מחבר ישר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סוגר זוויתי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סוגר זוויתי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FA61-1A4F-4C96-A7CF-308D5FB7A33F}" type="slidenum">
              <a:rPr b="0" lang="he-I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צורה חופשית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צורה חופשית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משולש ישר-זווית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משולש ישר-זווית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מחבר ישר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E194-25E0-4746-B5F5-3C2ECFD0976D}" type="slidenum">
              <a:rPr b="0" lang="he-I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58C8-BD20-4EAC-8CCA-78D02817CD03}" type="slidenum">
              <a:rPr b="0" lang="he-I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צורה חופשית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צורה חופשית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משולש ישר-זווית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משולש ישר-זווית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מחבר ישר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76A5-B7D0-4F13-9BB2-8B1046569A00}" type="slidenum">
              <a:rPr b="0" lang="he-I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C598-2D5B-4D0C-B6EA-D3C9EE6DAC49}" type="slidenum">
              <a:rPr b="0" lang="he-I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צורה חופשית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צורה חופשית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משולש ישר-זווית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משולש ישר-זווית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מחבר ישר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סוגר זוויתי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סוגר זוויתי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BEE4-9169-4653-A8CA-5B7D3BB1310B}" type="slidenum">
              <a:rPr b="0" lang="he-I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mailto:yehudalahav@hotmail.com" TargetMode="External"/><Relationship Id="rId3" Type="http://schemas.openxmlformats.org/officeDocument/2006/relationships/hyperlink" Target="mailto:lirazgr@gmail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lirazgr@gmail.com" TargetMode="External"/><Relationship Id="rId2" Type="http://schemas.openxmlformats.org/officeDocument/2006/relationships/hyperlink" Target="mailto:yehudalahav@hotmail.com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מלבן 4" descr=""/>
          <p:cNvPicPr/>
          <p:nvPr/>
        </p:nvPicPr>
        <p:blipFill>
          <a:blip r:embed="rId1"/>
          <a:stretch/>
        </p:blipFill>
        <p:spPr>
          <a:xfrm>
            <a:off x="433440" y="1639800"/>
            <a:ext cx="84787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4" descr=""/>
          <p:cNvPicPr/>
          <p:nvPr/>
        </p:nvPicPr>
        <p:blipFill>
          <a:blip r:embed="rId1"/>
          <a:stretch/>
        </p:blipFill>
        <p:spPr>
          <a:xfrm>
            <a:off x="2414520" y="328680"/>
            <a:ext cx="4614840" cy="140328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5"/>
          <p:cNvSpPr/>
          <p:nvPr/>
        </p:nvSpPr>
        <p:spPr>
          <a:xfrm>
            <a:off x="324000" y="1413000"/>
            <a:ext cx="8424720" cy="47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יהודה להב – אחראי עבודת גמר הומניו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Lucida Sans Unicode"/>
              </a:rPr>
              <a:t>טלפון </a:t>
            </a:r>
            <a:r>
              <a:rPr b="0" lang="he-IL" sz="2400" spc="-1" strike="noStrike">
                <a:solidFill>
                  <a:srgbClr val="000000"/>
                </a:solidFill>
                <a:latin typeface="Lucida Sans Unicode"/>
              </a:rPr>
              <a:t>054-247-9303</a:t>
            </a:r>
            <a:r>
              <a:rPr b="0" lang="he-IL" sz="2400" spc="-1" strike="noStrike">
                <a:solidFill>
                  <a:srgbClr val="000000"/>
                </a:solidFill>
                <a:latin typeface="Lucida Sans Unicode"/>
              </a:rPr>
              <a:t>, מייל:  </a:t>
            </a:r>
            <a:r>
              <a:rPr b="0" lang="en-US" sz="24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yehudalahav@hot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Lucida Sans Unicode"/>
              </a:rPr>
              <a:t>שעות קבלה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לירז גרופמן – אחראית עבודת גמר מדעיו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Lucida Sans Unicode"/>
              </a:rPr>
              <a:t>טלפון </a:t>
            </a:r>
            <a:r>
              <a:rPr b="0" lang="he-IL" sz="2400" spc="-1" strike="noStrike">
                <a:solidFill>
                  <a:srgbClr val="000000"/>
                </a:solidFill>
                <a:latin typeface="Lucida Sans Unicode"/>
              </a:rPr>
              <a:t>050-651-7557</a:t>
            </a:r>
            <a:r>
              <a:rPr b="0" lang="he-IL" sz="2400" spc="-1" strike="noStrike">
                <a:solidFill>
                  <a:srgbClr val="000000"/>
                </a:solidFill>
                <a:latin typeface="Lucida Sans Unicode"/>
              </a:rPr>
              <a:t>, מייל : </a:t>
            </a:r>
            <a:r>
              <a:rPr b="0" lang="en-US" sz="24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lirazgr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Lucida Sans Unicode"/>
              </a:rPr>
              <a:t>שעות קבלה- יום רביעי שיעור </a:t>
            </a:r>
            <a:r>
              <a:rPr b="0" lang="he-IL" sz="2400" spc="-1" strike="noStrike">
                <a:solidFill>
                  <a:srgbClr val="000000"/>
                </a:solidFill>
                <a:latin typeface="Lucida Sans Unicode"/>
              </a:rPr>
              <a:t>6</a:t>
            </a:r>
            <a:r>
              <a:rPr b="0" lang="he-IL" sz="24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he-IL" sz="2400" spc="-1" strike="noStrike">
                <a:solidFill>
                  <a:srgbClr val="000000"/>
                </a:solidFill>
                <a:latin typeface="Lucida Sans Unicode"/>
              </a:rPr>
              <a:t>12:50-13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/>
          <p:cNvSpPr/>
          <p:nvPr/>
        </p:nvSpPr>
        <p:spPr>
          <a:xfrm>
            <a:off x="4716360" y="1413000"/>
            <a:ext cx="4392720" cy="419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algn="ct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לירז גרופמן – אחראית עבודת גמר מדעיו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 algn="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Lucida Sans Unicode"/>
              </a:rPr>
              <a:t>טלפון </a:t>
            </a:r>
            <a:r>
              <a:rPr b="0" lang="he-IL" sz="2000" spc="-1" strike="noStrike">
                <a:solidFill>
                  <a:srgbClr val="000000"/>
                </a:solidFill>
                <a:latin typeface="Lucida Sans Unicode"/>
              </a:rPr>
              <a:t>050-651-7557</a:t>
            </a:r>
            <a:r>
              <a:rPr b="0" lang="he-IL" sz="20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Lucida Sans Unicode"/>
              </a:rPr>
              <a:t>מייל: </a:t>
            </a: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lirazgr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Lucida Sans Unicode"/>
              </a:rPr>
              <a:t>שעות קבלה - יום רביעי </a:t>
            </a:r>
            <a:r>
              <a:rPr b="0" lang="he-IL" sz="2000" spc="-1" strike="noStrike">
                <a:solidFill>
                  <a:srgbClr val="000000"/>
                </a:solidFill>
                <a:latin typeface="Lucida Sans Unicode"/>
              </a:rPr>
              <a:t>12:50-13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1413000"/>
            <a:ext cx="4643280" cy="358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000" algn="ct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יהודה להב – אחראי עבודת גמ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 algn="ct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הומניו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000" algn="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Lucida Sans Unicode"/>
              </a:rPr>
              <a:t>טלפון </a:t>
            </a:r>
            <a:r>
              <a:rPr b="0" lang="he-IL" sz="2000" spc="-1" strike="noStrike">
                <a:solidFill>
                  <a:srgbClr val="000000"/>
                </a:solidFill>
                <a:latin typeface="Lucida Sans Unicode"/>
              </a:rPr>
              <a:t>054-247-9303</a:t>
            </a:r>
            <a:r>
              <a:rPr b="0" lang="he-IL" sz="20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Lucida Sans Unicode"/>
              </a:rPr>
              <a:t>מייל:  </a:t>
            </a: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yehudalahav@hot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Lucida Sans Unicode"/>
              </a:rPr>
              <a:t>שעות קבלה – בתיאום איש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Rectangle 5" descr=""/>
          <p:cNvPicPr/>
          <p:nvPr/>
        </p:nvPicPr>
        <p:blipFill>
          <a:blip r:embed="rId3"/>
          <a:stretch/>
        </p:blipFill>
        <p:spPr>
          <a:xfrm>
            <a:off x="2414520" y="328680"/>
            <a:ext cx="46148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3" descr=""/>
          <p:cNvPicPr/>
          <p:nvPr/>
        </p:nvPicPr>
        <p:blipFill>
          <a:blip r:embed="rId1"/>
          <a:stretch/>
        </p:blipFill>
        <p:spPr>
          <a:xfrm>
            <a:off x="0" y="103320"/>
            <a:ext cx="904068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08000" y="1268280"/>
            <a:ext cx="903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Lucida Sans Unicode"/>
              </a:rPr>
              <a:t> הכנת עבודת הגמר מבוססת על ידע עדכני, דרכי מחקר ועבודה ברמה אקדמית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Lucida Sans Unicode"/>
              </a:rPr>
              <a:t>עבודת הגמר היא בת </a:t>
            </a:r>
            <a:r>
              <a:rPr b="0" lang="he-IL" sz="36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he-IL" sz="3600" spc="-1" strike="noStrike">
                <a:solidFill>
                  <a:srgbClr val="000000"/>
                </a:solidFill>
                <a:latin typeface="Lucida Sans Unicode"/>
              </a:rPr>
              <a:t> יחידות-לימוד. הכנתה היא על-פי כללים ודרישות מקצועיות שנקבעו ע"י הפיקוח במשרד החינוך בליווי של מנחה מומחה מתחום המדעים והרוח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Lucida Sans Unicode"/>
              </a:rPr>
              <a:t>הכנת העבודה היא בכתות י"א-י"ב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1" descr=""/>
          <p:cNvPicPr/>
          <p:nvPr/>
        </p:nvPicPr>
        <p:blipFill>
          <a:blip r:embed="rId1"/>
          <a:stretch/>
        </p:blipFill>
        <p:spPr>
          <a:xfrm>
            <a:off x="1504800" y="182520"/>
            <a:ext cx="59691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0" y="1655640"/>
            <a:ext cx="88200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Lucida Sans Unicode"/>
              </a:rPr>
              <a:t>להשלים פרויקט מחקרי, שגובש והוכן על- פי קריטריונים אקדמיים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000" spc="-1" strike="noStrike">
                <a:solidFill>
                  <a:srgbClr val="000000"/>
                </a:solidFill>
                <a:latin typeface="Lucida Sans Unicode"/>
              </a:rPr>
              <a:t>עבודה זו מקנה דרכי חשיבה, הרגלי למידה, שיטות למיון ידע ולארגונו, מיומנויות כתיבה, הבעה ועריכה של מאמר מקצועי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extBox 3" descr=""/>
          <p:cNvPicPr/>
          <p:nvPr/>
        </p:nvPicPr>
        <p:blipFill>
          <a:blip r:embed="rId1"/>
          <a:stretch/>
        </p:blipFill>
        <p:spPr>
          <a:xfrm>
            <a:off x="2054160" y="365040"/>
            <a:ext cx="5327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מציין מיקום תוכן 2" descr=""/>
          <p:cNvPicPr/>
          <p:nvPr/>
        </p:nvPicPr>
        <p:blipFill>
          <a:blip r:embed="rId1"/>
          <a:stretch/>
        </p:blipFill>
        <p:spPr>
          <a:xfrm>
            <a:off x="-128520" y="-30240"/>
            <a:ext cx="927252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מציין מיקום תוכן 2" descr=""/>
          <p:cNvPicPr/>
          <p:nvPr/>
        </p:nvPicPr>
        <p:blipFill>
          <a:blip r:embed="rId1"/>
          <a:stretch/>
        </p:blipFill>
        <p:spPr>
          <a:xfrm>
            <a:off x="-774720" y="66600"/>
            <a:ext cx="962676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3" descr=""/>
          <p:cNvPicPr/>
          <p:nvPr/>
        </p:nvPicPr>
        <p:blipFill>
          <a:blip r:embed="rId1"/>
          <a:stretch/>
        </p:blipFill>
        <p:spPr>
          <a:xfrm>
            <a:off x="55440" y="500040"/>
            <a:ext cx="900936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0" y="285840"/>
            <a:ext cx="903600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2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 u="sng">
                <a:solidFill>
                  <a:srgbClr val="000000"/>
                </a:solidFill>
                <a:uFillTx/>
                <a:latin typeface="Lucida Sans Unicode"/>
              </a:rPr>
              <a:t>2</a:t>
            </a:r>
            <a:r>
              <a:rPr b="1" lang="he-IL" sz="3300" spc="-1" strike="noStrike" u="sng">
                <a:solidFill>
                  <a:srgbClr val="000000"/>
                </a:solidFill>
                <a:uFillTx/>
                <a:latin typeface="Lucida Sans Unicode"/>
              </a:rPr>
              <a:t>. עבודה  צמודה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3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he-IL" sz="3300" spc="-1" strike="noStrike">
                <a:solidFill>
                  <a:srgbClr val="000000"/>
                </a:solidFill>
                <a:latin typeface="Lucida Sans Unicode"/>
              </a:rPr>
              <a:t>עבודה  זו ממירה  בחינת  בגרות  באחד  ממקצועות  הבחינה  והיא  נכתבת  </a:t>
            </a:r>
            <a:r>
              <a:rPr b="1" lang="he-IL" sz="3300" spc="-1" strike="noStrike" u="sng">
                <a:solidFill>
                  <a:srgbClr val="000000"/>
                </a:solidFill>
                <a:uFillTx/>
                <a:latin typeface="Lucida Sans Unicode"/>
              </a:rPr>
              <a:t>באותו  תחום  דעת</a:t>
            </a:r>
            <a:r>
              <a:rPr b="0" lang="he-IL" sz="33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300" spc="-1" strike="noStrike">
                <a:solidFill>
                  <a:srgbClr val="000000"/>
                </a:solidFill>
                <a:latin typeface="Lucida Sans Unicode"/>
              </a:rPr>
              <a:t>  עבודה  צמודה  מלווה  בציון  שנתי.   תנאי  מקדים  לכתיבת  עבודה  מסוג  זה  הוא  ציון  של </a:t>
            </a:r>
            <a:r>
              <a:rPr b="1" lang="he-IL" sz="3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he-IL" sz="3300" spc="-1" strike="noStrike" u="sng">
                <a:solidFill>
                  <a:srgbClr val="000000"/>
                </a:solidFill>
                <a:uFillTx/>
                <a:latin typeface="Lucida Sans Unicode"/>
              </a:rPr>
              <a:t>75</a:t>
            </a:r>
            <a:r>
              <a:rPr b="1" lang="he-IL" sz="33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he-IL" sz="3300" spc="-1" strike="noStrike" u="sng">
                <a:solidFill>
                  <a:srgbClr val="000000"/>
                </a:solidFill>
                <a:uFillTx/>
                <a:latin typeface="Lucida Sans Unicode"/>
              </a:rPr>
              <a:t>לפחות</a:t>
            </a:r>
            <a:r>
              <a:rPr b="0" lang="he-IL" sz="3300" spc="-1" strike="noStrike">
                <a:solidFill>
                  <a:srgbClr val="000000"/>
                </a:solidFill>
                <a:latin typeface="Lucida Sans Unicode"/>
              </a:rPr>
              <a:t>  במקצוע.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300" spc="-1" strike="noStrike">
                <a:solidFill>
                  <a:srgbClr val="000000"/>
                </a:solidFill>
                <a:latin typeface="Lucida Sans Unicode"/>
              </a:rPr>
              <a:t> עבודה זו אינה משחררת מעמידה במלוא                                                            החובות  והמשימות  המוטלות  על  הכיתה  עד  ליום  הגשת עבודת – הגמר. 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Rectangle 3" descr=""/>
          <p:cNvPicPr/>
          <p:nvPr/>
        </p:nvPicPr>
        <p:blipFill>
          <a:blip r:embed="rId1"/>
          <a:stretch/>
        </p:blipFill>
        <p:spPr>
          <a:xfrm>
            <a:off x="212760" y="139680"/>
            <a:ext cx="847404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1:50:56Z</dcterms:created>
  <dc:creator>ariela</dc:creator>
  <dc:description/>
  <dc:language>en-US</dc:language>
  <cp:lastModifiedBy>Library Office</cp:lastModifiedBy>
  <dcterms:modified xsi:type="dcterms:W3CDTF">2013-10-20T08:02:20Z</dcterms:modified>
  <cp:revision>58</cp:revision>
  <dc:subject/>
  <dc:title>שקופית 1</dc:title>
</cp:coreProperties>
</file>